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6D1E-1EC0-4430-8E8B-F655C40E57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alife.com.u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ravostok.ru/upload/information_system_1/3/0/2/item_3022/information_items_302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4292-E8AB-4337-B8B3-F3C87B6174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1B3B-B490-4898-A878-597FAF9E1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ivejournal.ru/static/files/photos/zoom/788_10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82E0-D59E-489C-8B78-A76129DE27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D51-D6C6-4C98-83DB-96F3AE61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3AD-06BA-4669-AFF9-7DAEA13E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78A-8F6F-46BE-AA9E-A3136CCA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CB4-9201-44D9-96DD-4FA33772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4996-71E8-456C-A607-3B7DD480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7EF3-6AFD-44E9-8390-D4D24A0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4CAE-19DC-491D-9863-A76E15FB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DC4A-19DB-47D8-83C4-84C0AAE7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76E0-C028-462F-9D91-B58D091F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A431-4098-4882-B518-16E2E549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B474-4BFB-45DC-8CFA-74B606EA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811-8832-4173-95CB-0BCA473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DF7B-CDE1-490E-ACE8-A1BA8A0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A85D-8A44-4144-AA8E-B055FC0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98D8-00D5-4B7C-88B1-BAA8B95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32C9-F046-4A85-9FF6-7ECCEBF6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94C-3C1A-4A6F-9710-96C5264A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F84C-6198-4FDD-9E29-F60B5547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F0C0-78BD-457A-97EC-BA52CE05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ECD8-4441-41FB-9131-CD0C6437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7047-1AFA-4E14-B036-67576116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F373-7799-4003-86CA-DBB00148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209-EB74-47FB-B657-CBC79168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D74E-223E-46C5-AA38-5CA646F7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1BAA-DF51-4B61-BB9D-AEE203C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7740-1882-49DD-A96B-C5AE617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771A-1964-43C8-8623-120CA443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0B07-49E6-4917-A70F-9871CA88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4C26-38BA-4520-82A4-F14B1067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8F86-1B0F-496E-A88F-9EDF4CD4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41FEF-E137-48BA-8DF5-71037B0B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2F8E-26EC-423D-B6B6-8AE8E90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33B6-E27D-4145-89CD-38DA0EE2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42C-2624-4A51-814A-6CBB96C2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AFF3-24E3-422C-A737-6F5874D0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AA18-0B12-40EE-89ED-4822E64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FC1F-2835-42CC-B052-806EF5F8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FE3B-A547-4C95-A72C-165E971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774A-E0D1-4645-B0A5-1700F120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231E-C627-44DD-BD19-F332D93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FA0E-E43A-429E-BDD1-9A08861F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D866-565B-4CBD-BBF7-2E627204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6E0E-EBE2-4EBE-BE8D-09F49185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FBC-3992-4DEC-80A2-925A12E4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450-0E87-4F47-A48F-861AB97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67B-C8D9-449F-A1B9-3DD6EC4B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F72-15C8-420B-A856-B7978C8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259-7689-4997-B236-85F4729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9F50-2DFC-483A-806A-5BCCA0CA4D59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A5E0-550D-4439-97AF-34C2D4B15227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E7BF-E809-4B22-8A4F-5EA5A491E06D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36F6-D87C-4F7E-8714-C1CEDA08EE8E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7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771480" y="476280"/>
            <a:ext cx="7602480" cy="1712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539640" y="5578560"/>
            <a:ext cx="115272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5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413000"/>
            <a:ext cx="4035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МИЛОСТЫНЯ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ПОМОЩЬ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6520" y="731520"/>
            <a:ext cx="33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643280" y="1844640"/>
          <a:ext cx="3673800" cy="1368360"/>
        </p:xfrm>
        <a:graphic>
          <a:graphicData uri="http://schemas.openxmlformats.org/drawingml/2006/table">
            <a:tbl>
              <a:tblPr/>
              <a:tblGrid>
                <a:gridCol w="3673800"/>
              </a:tblGrid>
              <a:tr h="136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казание помощи, не вникая в пробл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284720" y="3573360"/>
          <a:ext cx="3887640" cy="207324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2073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ребует большей включённости в проблему,   которую пытается решить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300" name="Заголовок 2" descr=""/>
          <p:cNvPicPr/>
          <p:nvPr/>
        </p:nvPicPr>
        <p:blipFill>
          <a:blip r:embed="rId1"/>
          <a:stretch/>
        </p:blipFill>
        <p:spPr>
          <a:xfrm>
            <a:off x="804960" y="79200"/>
            <a:ext cx="758340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Непоседы - БЫТЬ ЧЕЛОВЕКОМ. Песня со смыслом..mp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3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ИТЧА О СТАКАНЕ МОЛОКА.до слез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http://festival.1september.ru/articles/512376/Image4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285840" y="383760"/>
            <a:ext cx="4786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ьте внимательными, вдруг кому-то нужна ваша помощь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дите, когда вас попросят, а помогите нуждающим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42920" y="1341000"/>
            <a:ext cx="68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. Составить представление о таком понятии как «МИЛОСЕРДИЕ»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.Научится анализировать поступки людей в разных жизненных ситуаци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.  Высказывать свою точку зрения, отстаивать собственное мнение, принимать чужо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-231840"/>
            <a:ext cx="80042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179280" y="171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rebuchet MS"/>
              </a:rPr>
              <a:t>МИЛ</a:t>
            </a:r>
            <a:r>
              <a:rPr b="1" lang="ru-RU" sz="6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1" lang="ru-RU" sz="6000" spc="-1" strike="noStrike">
                <a:solidFill>
                  <a:srgbClr val="c00000"/>
                </a:solidFill>
                <a:latin typeface="Trebuchet MS"/>
              </a:rPr>
              <a:t>СЕРД</a:t>
            </a:r>
            <a:r>
              <a:rPr b="1" lang="ru-RU" sz="6000" spc="-1" strike="noStrike">
                <a:solidFill>
                  <a:srgbClr val="000000"/>
                </a:solidFill>
                <a:latin typeface="Trebuchet MS"/>
              </a:rPr>
              <a:t>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719280" y="17002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ердц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alibri"/>
              </a:rPr>
              <a:t>милует любит жале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844560" y="354960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ЛОСЕРД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737240" y="212580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ОРА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5964120" y="12938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681516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753240" y="496872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192400" y="298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1039680" y="46832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4720" y="556272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6311880" y="27144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2282760" y="274464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276228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543040" y="1832040"/>
            <a:ext cx="15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4859280" y="3441600"/>
            <a:ext cx="16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6105600" y="5877000"/>
            <a:ext cx="22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Д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4043520" y="43909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6858000" y="275436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3892680" y="51465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2925720" y="588492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9" descr=""/>
          <p:cNvPicPr/>
          <p:nvPr/>
        </p:nvPicPr>
        <p:blipFill>
          <a:blip r:embed="rId2"/>
          <a:stretch/>
        </p:blipFill>
        <p:spPr>
          <a:xfrm>
            <a:off x="1116000" y="0"/>
            <a:ext cx="6885000" cy="6885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 rot="4272600">
            <a:off x="2672280" y="11800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 rot="4471200">
            <a:off x="4144320" y="5125320"/>
            <a:ext cx="25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"/>
          <p:cNvSpPr/>
          <p:nvPr/>
        </p:nvSpPr>
        <p:spPr>
          <a:xfrm rot="2527800">
            <a:off x="5257080" y="44438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5"/>
          <p:cNvSpPr/>
          <p:nvPr/>
        </p:nvSpPr>
        <p:spPr>
          <a:xfrm rot="17479800">
            <a:off x="3316680" y="518724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6"/>
          <p:cNvSpPr/>
          <p:nvPr/>
        </p:nvSpPr>
        <p:spPr>
          <a:xfrm rot="20047200">
            <a:off x="1512000" y="393228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7"/>
          <p:cNvSpPr/>
          <p:nvPr/>
        </p:nvSpPr>
        <p:spPr>
          <a:xfrm rot="2500800">
            <a:off x="1857600" y="177480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8"/>
          <p:cNvSpPr/>
          <p:nvPr/>
        </p:nvSpPr>
        <p:spPr>
          <a:xfrm rot="19146600">
            <a:off x="4950000" y="144504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9"/>
          <p:cNvSpPr/>
          <p:nvPr/>
        </p:nvSpPr>
        <p:spPr>
          <a:xfrm rot="718200">
            <a:off x="1587600" y="29509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0"/>
          <p:cNvSpPr/>
          <p:nvPr/>
        </p:nvSpPr>
        <p:spPr>
          <a:xfrm rot="19135800">
            <a:off x="2155320" y="4695480"/>
            <a:ext cx="24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1"/>
          <p:cNvSpPr/>
          <p:nvPr/>
        </p:nvSpPr>
        <p:spPr>
          <a:xfrm rot="1218600">
            <a:off x="5850360" y="34318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2"/>
          <p:cNvSpPr/>
          <p:nvPr/>
        </p:nvSpPr>
        <p:spPr>
          <a:xfrm rot="20458800">
            <a:off x="5733360" y="226368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 rot="17026200">
            <a:off x="3888000" y="111672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3645000" y="2522520"/>
            <a:ext cx="1852560" cy="1811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4"/>
          <a:stretch/>
        </p:blipFill>
        <p:spPr>
          <a:xfrm>
            <a:off x="36360" y="0"/>
            <a:ext cx="2936880" cy="2130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5"/>
          <a:stretch/>
        </p:blipFill>
        <p:spPr>
          <a:xfrm>
            <a:off x="6126120" y="3859200"/>
            <a:ext cx="303840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45080" y="7315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Пальто_ История милосердия.mp4" descr=""/>
          <p:cNvPicPr/>
          <p:nvPr/>
        </p:nvPicPr>
        <p:blipFill>
          <a:blip r:embed="rId1"/>
          <a:stretch/>
        </p:blipFill>
        <p:spPr>
          <a:xfrm>
            <a:off x="-17640" y="54936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Эмпатия — не сочувствие, а понимание обстоятельств человека, даже если ты  сам никогда в них не был - ВОмске"/>
          <p:cNvPicPr/>
          <p:nvPr/>
        </p:nvPicPr>
        <p:blipFill>
          <a:blip r:embed="rId1"/>
          <a:stretch/>
        </p:blipFill>
        <p:spPr>
          <a:xfrm>
            <a:off x="2195640" y="2781360"/>
            <a:ext cx="6667200" cy="3600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725400" y="176040"/>
            <a:ext cx="7948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3"/>
          <p:cNvSpPr/>
          <p:nvPr/>
        </p:nvSpPr>
        <p:spPr>
          <a:xfrm>
            <a:off x="4737240" y="2125800"/>
            <a:ext cx="2674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5964120" y="1293840"/>
            <a:ext cx="28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2192400" y="298440"/>
            <a:ext cx="2133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6311880" y="271440"/>
            <a:ext cx="1836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2762280" y="112536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2543040" y="1832040"/>
            <a:ext cx="150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Рисунок 8" descr="1576.jpg"/>
          <p:cNvPicPr/>
          <p:nvPr/>
        </p:nvPicPr>
        <p:blipFill>
          <a:blip r:embed="rId2"/>
          <a:stretch/>
        </p:blipFill>
        <p:spPr>
          <a:xfrm>
            <a:off x="179280" y="189000"/>
            <a:ext cx="4121280" cy="3527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-_xZdkZPpDE.jpg"/>
          <p:cNvPicPr/>
          <p:nvPr/>
        </p:nvPicPr>
        <p:blipFill>
          <a:blip r:embed="rId3"/>
          <a:stretch/>
        </p:blipFill>
        <p:spPr>
          <a:xfrm>
            <a:off x="179280" y="3645000"/>
            <a:ext cx="4148280" cy="3041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miloserd500_1242722150.jpg"/>
          <p:cNvPicPr/>
          <p:nvPr/>
        </p:nvPicPr>
        <p:blipFill>
          <a:blip r:embed="rId4"/>
          <a:stretch/>
        </p:blipFill>
        <p:spPr>
          <a:xfrm>
            <a:off x="4500720" y="1071720"/>
            <a:ext cx="434484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3"/>
          <p:cNvSpPr/>
          <p:nvPr/>
        </p:nvSpPr>
        <p:spPr>
          <a:xfrm>
            <a:off x="4737240" y="2125800"/>
            <a:ext cx="2674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964120" y="1293840"/>
            <a:ext cx="28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2192400" y="298440"/>
            <a:ext cx="2133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6311880" y="271440"/>
            <a:ext cx="1836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2762280" y="112536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2543040" y="1832040"/>
            <a:ext cx="150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8" descr="milostyna.jpg"/>
          <p:cNvPicPr/>
          <p:nvPr/>
        </p:nvPicPr>
        <p:blipFill>
          <a:blip r:embed="rId2"/>
          <a:stretch/>
        </p:blipFill>
        <p:spPr>
          <a:xfrm>
            <a:off x="1187280" y="1268280"/>
            <a:ext cx="4121280" cy="2643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1444811.jpg"/>
          <p:cNvPicPr/>
          <p:nvPr/>
        </p:nvPicPr>
        <p:blipFill>
          <a:blip r:embed="rId3"/>
          <a:stretch/>
        </p:blipFill>
        <p:spPr>
          <a:xfrm>
            <a:off x="4716360" y="2637000"/>
            <a:ext cx="4049640" cy="285732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3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1a08"/>
                </a:solidFill>
                <a:latin typeface="Calibri"/>
              </a:rPr>
              <a:t>Милосты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угольник 16"/>
          <p:cNvSpPr/>
          <p:nvPr/>
        </p:nvSpPr>
        <p:spPr>
          <a:xfrm>
            <a:off x="971640" y="5445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омощь друго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человеку из жалости к н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202</cp:lastModifiedBy>
  <dcterms:modified xsi:type="dcterms:W3CDTF">2024-02-16T10:04:38Z</dcterms:modified>
  <cp:revision>170</cp:revision>
  <dc:subject/>
  <dc:title>Презентация PowerPoint</dc:title>
</cp:coreProperties>
</file>